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3DE32-8FF8-4F90-A3ED-BEABAE435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4C1AF-F27A-4343-8D31-233AF95B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8257C-261D-4999-9714-989497C3F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78072-2BD6-408F-964C-DED861F41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03CE-8D09-475A-BBC3-DA6222EE7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3FE7-2574-4B0D-8849-7E1D30EC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1360-AFE3-4740-81E6-AC8210DF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1C28-77D7-48D1-BA59-72C15604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3602-549D-4973-96E2-8A347000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C0AA-186D-4AB7-883D-C5F48EA2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D6B7-612B-49C4-9B12-FB8D8490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143AC-AEF8-43A0-87E4-74B871CB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E414-905D-4C25-AC46-22B2C9A6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4BCA-57B7-4BA9-8B88-F6EE6A62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F7BB-A825-45F3-9923-A3E67811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9739-4D55-4A9E-BC2E-1C29DCDD0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AED1-8E03-4328-9F9D-5A8E6DEB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0ABEF-82D2-4FB2-AF5B-C062BB52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ADE44-EC94-4004-AECA-C80371EA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BE315-CF6A-429C-885F-0D58273E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39FA1-D193-4C00-9F31-C1A82E3A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0E1B1-3C63-4AF2-A415-A802960D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6B81F-70ED-4336-833D-A186EBA0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47B31-5E64-4F95-8113-6E16255F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2079" t="0" r="11840" b="0"/>
          <a:stretch/>
        </p:blipFill>
        <p:spPr>
          <a:xfrm>
            <a:off x="0" y="0"/>
            <a:ext cx="914256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5410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835E-F44A-4DBC-8C2C-E097860FA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1430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2361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rcRect l="2079" t="0" r="11840" b="0"/>
          <a:stretch/>
        </p:blipFill>
        <p:spPr>
          <a:xfrm>
            <a:off x="0" y="2895480"/>
            <a:ext cx="914256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4038480"/>
            <a:ext cx="9142560" cy="152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2284-4798-4336-ACEF-75646AE1E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Dialects and Varieti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ny A. Kwary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www.kwary.ne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irlangga University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egional Dialec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60958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al variation in pronunciation, in the choices and forms of words, and in syntax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lect geography: a map of the distributions of various linguistic features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gloss: a line drawn to show a dialect boundary between adjacent areas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1" name="Picture 4" descr="j0335112"/>
          <p:cNvPicPr/>
          <p:nvPr/>
        </p:nvPicPr>
        <p:blipFill>
          <a:blip r:embed="rId1"/>
          <a:stretch/>
        </p:blipFill>
        <p:spPr>
          <a:xfrm>
            <a:off x="6324480" y="160020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j0300840"/>
          <p:cNvPicPr/>
          <p:nvPr/>
        </p:nvPicPr>
        <p:blipFill>
          <a:blip r:embed="rId2"/>
          <a:stretch/>
        </p:blipFill>
        <p:spPr>
          <a:xfrm>
            <a:off x="6324480" y="4267080"/>
            <a:ext cx="198144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ialect vs. Acc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rm dialect should not be confused with the term accent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nt: the pronuncia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lect: the pronunciation, vocabulary, and gramm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o-called ‘best’ English accent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ceived Pronunciation (RP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also called the Queen’s English, Oxford English, and BBC English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cial Dialec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dialects originate among social groups and are mainly related to social class, religion, and ethnicity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g. In Baghdad, the Christian, Jewish, and Muslim inhabitants speak different varieties of Arabic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examples of social dialects in America?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tyles, Registers, and Belief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tyles: formal vs. informa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174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ow do these differ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anguage Registers: associated with occupational group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174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hat are some examples of these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eliefs: judgment about ‘better’ or ‘worse’ varieties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174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 America, what varieties are considered better?  Worse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385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385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385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385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385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385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385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385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385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385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385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385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385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385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385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385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385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385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385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385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385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385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" dur="385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385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23:54:03Z</dcterms:created>
  <dc:creator>Deny A. Kwary</dc:creator>
  <dc:description/>
  <dc:language>en-US</dc:language>
  <cp:lastModifiedBy>Bill Comer</cp:lastModifiedBy>
  <dcterms:modified xsi:type="dcterms:W3CDTF">2010-06-21T00:25:49Z</dcterms:modified>
  <cp:revision>3</cp:revision>
  <dc:subject/>
  <dc:title>Dialects and Varieties</dc:title>
</cp:coreProperties>
</file>